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6864-EE23-4E05-BFC2-1B20684DE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0402-CA3B-46A8-81DD-B1ED4EC3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DBF-78F1-49C6-B28A-DB0103CF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80A5-CC07-4AA4-A990-24D3148C8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DA78-21FD-4C23-B816-1798FF7E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394D-0F4C-42E1-B3C9-433B035C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C7AC-9EB2-44DF-BF18-9C90CB15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8594-6436-4F6A-BF46-FFF1993B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68CF-0DAD-4715-9C5B-B2669AEA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A4FD-8DBD-4C0B-9B74-8CA54F56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F0E2-8ADD-41EA-A059-BF459160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7B9B-9AB8-4B1D-B22D-F2C247A95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2818-CCEC-4587-B5FF-1158FF92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5AFB-89AA-4BDF-B1EB-C0BB9D04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BFB4-C740-4A13-A2C4-8710C97E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666B-EC12-41FE-85EE-170ED48A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8797F-E6DB-4B9D-B0C1-3E93C40F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5792-DA47-4728-A124-BA287B4E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8347-07AC-4827-8B4B-02FD0B5F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5808-0B4B-4EE2-89D6-1DC735E4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1593-4937-42FE-8C98-3604FC40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A9A8-B4BB-4A53-980A-BD181034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20C-3AC7-4D51-9B12-D28AA460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EFD6-00CA-4258-8250-47165869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66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66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6600"/>
          </a:solidFill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A723-F85A-43B3-8E4A-9A2DF61FF31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ACA3-02A1-42B2-AD28-21120192F26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6600"/>
          </a:solidFill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66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66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b/bc/Fj&#230;regranitt3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a/a1/IndianGranite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e/ec/Igneous_rock_Santoroni_Greece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Warm-up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ow do geologists classify igneous rocks? What two main features do they look for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What is the difference between magma and lava?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Obsidian and Pumic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Obsidian: magma cools too quickly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no crystal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Obsidian and Pumic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umice: dissolved gasses escape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bubble holes (just like opening a soda bottle)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Floats on water!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343400" cy="39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ractice Classification: Granit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ntrusive or extrusive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" descr="File:Fjæregranitt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00200" y="2286000"/>
            <a:ext cx="57913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ractice Classification: Basal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Intrusive or extrusive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209680" y="2286000"/>
            <a:ext cx="4419720" cy="4419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447920" y="2362320"/>
            <a:ext cx="6324480" cy="395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gneous Rocks: Digging Deepe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RT 11, 9/2/09, pg. U17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rth Scie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r. Comerfo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Objectiv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WBAT: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escribe how the two main types of igneous rock for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assify igneous rocks based on crystal size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Locate igneous rock units around Colorado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Lab Tim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66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Group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66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reate tabl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66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escribe igneous rock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66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ist categories of igneous rock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6600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parate rocks into categori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Lab Time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6600"/>
              </a:buClr>
              <a:buSzPct val="65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Discuss correct answer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6600"/>
              </a:buClr>
              <a:buSzPct val="65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How do geologists classify igneous rocks?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6600"/>
              </a:buClr>
              <a:buSzPct val="65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nswer Question # 5, (a) and (b)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Igneous Rock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rmed from cooling of magma, either above or below the surface of the Earth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200400" y="2819520"/>
            <a:ext cx="5715000" cy="37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Magma vs. Lava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agma that reaches the surface is called </a:t>
            </a:r>
            <a:r>
              <a:rPr b="0" i="1" lang="en-US" sz="3000" spc="-1" strike="noStrike">
                <a:solidFill>
                  <a:srgbClr val="ffffff"/>
                </a:solidFill>
                <a:latin typeface="Verdana"/>
              </a:rPr>
              <a:t>lava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52480" y="2819520"/>
            <a:ext cx="5791320" cy="376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2 Types of Igneous Rock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trus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med undergrou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low cooling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few, big cryst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3" name="" descr="File:IndianGranit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32416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2 Types of Igneous Rocks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rus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med above grou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st cooling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any, small cryst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" descr="File:Igneous rock Santoroni Greec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243828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00:03:25Z</dcterms:created>
  <dc:creator>Jimmer Comerford</dc:creator>
  <dc:description/>
  <dc:language>en-US</dc:language>
  <cp:lastModifiedBy>Jimmer Comerford</cp:lastModifiedBy>
  <dcterms:modified xsi:type="dcterms:W3CDTF">2009-09-02T07:05:45Z</dcterms:modified>
  <cp:revision>10</cp:revision>
  <dc:subject/>
  <dc:title>Igneous Rocks</dc:title>
</cp:coreProperties>
</file>